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05B4-7D1C-46C1-877C-63FBA2C52D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FF4F-9FD3-4D6D-81BF-119E296402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A403B-429D-4802-88AD-C4F4259E7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CBA4-43EE-4ED1-8ADB-93EA4D70E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8C86F-D26B-4693-B03B-EF89BBAF6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D24DB-4B4F-4385-BCF7-09CF1B908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57F25-0B02-4F95-A6EB-8BBF474C3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0CF74-2D77-434E-8BC3-221FB4190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3C862-5FE6-4E4A-A185-7798D5CF8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0BEF0-70A5-4712-98F8-9DAD2B6DF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D18E9-695C-43D4-B46B-C266E41A8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D98D3-4F7B-4638-B103-28FFB358C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7DE86-29CA-4845-8D83-D736ABA06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107C4-969D-4218-B5B5-D1F6BFF1B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01DB6-8AF6-4F91-8FD8-23FD6EC30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A7CFF-1053-4CA8-BFEB-A07325D20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563A3-BFDA-4063-9BF3-D2F17E498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4C727-95F5-4685-B0CA-6E2B70805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9A98C-46CA-44CE-A452-66E86E259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586203-25E9-4363-A42F-7D41CE06CE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E5ECA-2BFF-4D1B-A77C-5A7678623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66D26-2808-4A0C-8AB9-2DDF3DACE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B0B38-6775-4739-82C3-4A94519F0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A0C7A-4D41-438E-A805-ED4AE18D7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3261E-2BDA-4E9A-8C33-C8BFDB5C5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B5C35-F554-42A2-BFF3-059133206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6935D-6C67-4A04-93F4-95C9387D7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E4C48-5CC2-4039-97D9-7774523FA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2354F-2999-422A-8FEF-7BA473538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45DDB7-0687-4896-8A88-DC1BCCDDC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BF3422-87CD-48F2-B79B-FBD31387D3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C8030D-4198-4B30-A078-D88C5CB588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A9DF55-4394-4111-9814-0D29E51E8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05284C-ADD2-4B83-A0E9-6FFA182B4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9970E-0235-4043-92D4-A6FD6F536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3FA17-145B-4708-AF02-6F39EA24F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316CF-BF73-4D74-BF3A-BA4A2AA48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07E92A-F6DF-4A3D-AB6E-9B2908F02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B3033-B493-4BDD-BE21-42F91A217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24591-F359-4205-94B0-B6F7B2A3C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FFAE5-66AD-4A83-93D4-28165D3FD8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38F64-D68E-4F50-AEA1-D122F62F7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DA68B-49D3-4EF7-81C7-BE7C863119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8ACC3-EC66-47E8-A163-3ABB08C688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5AB81E-7B49-48E0-B145-5722EB25CB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EDDE90-5C07-4B8B-B093-599310F0F2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74038-CEB0-4E0C-A12E-1208A78D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AA5DD0-CE90-4E5F-A77B-7365CB0354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E5A491-1903-4BAD-807E-746F48DAB8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0CDAC-7172-4ECF-9811-9B799858C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27F33-D643-409A-B9E0-535527A7D6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239E3-4BCC-45AB-B7CF-092A07A21C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6F59F-4C04-4392-9D60-E9E02A40F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9F7F8-5AA8-46BA-A275-A6460BFC4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73F81-1D8C-4BB7-BF75-8F1C3949B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283D5F-88C1-4E72-8E09-2F1493C4F4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1C5B06-5173-42A6-B1A9-6CBEF9A6BC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5D3B9-F93F-40AD-902E-62AB172C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23DE15-44C0-4323-B6CA-A415A74545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1585ED-4AEF-4412-BF23-63A7D3454E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3941F1-C539-4769-8DE1-A2B41E32F9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ADD969-F7B5-450F-963C-5F8E260AC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6510E-D3E6-48FC-B2EF-315B08C620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392925-02FC-45B3-9CDB-7C503D014A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ABB44-0A58-4783-8D32-957B881B73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793FD-63D5-4F06-95BB-303D7045F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E5752-6B1D-4755-A18F-F9BCB1A94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D19A47-E513-45D1-B6FF-5C5196F6A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8E8E-C6DC-4385-A7E2-225ED568E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849AF1-4909-4282-AF82-A19F85912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5E2E37-AFC9-42CC-B76A-106428E16E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AECCA3-B119-48B7-BD44-7859F9BB2B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E90E71-5C10-41CD-BBB5-DEA3890B1E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63A63F-2CB1-4767-AE10-54392D0F3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5D6A4-FAD0-4F4C-A2C2-E8F677E35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2CAB6-68F5-461B-8131-7B31742B23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B78C93-1363-49A4-A9B5-00A9B8239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08CAA0-1CDC-471D-B8F2-C81B1718C2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CD1F5-73BC-43C9-AC58-B9F7326BE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4213-1DF2-428B-BA8D-5D726B4B4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E9498-0F9B-44D9-85D9-ECD03231B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487AA-96D2-43C0-A478-0095CA0DC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6C0F05-88EA-4D63-B4BB-CBD35E873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6BFB49-05D1-4B2C-BAD6-10BA72871A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7CB798-CDBC-4E50-BBE9-568C1FB6AA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2D46-370A-4343-9CCB-B882A6018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C2C3-7E9B-425E-8664-7EE9D7C2E6B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F41B-E7AD-432E-B669-D4DEDEC7BF7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3782-713D-47A6-A9B0-26CC9651FB1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95AA-8F86-48D1-BB44-03A5A9E71BF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9382-A8DF-47F5-942D-4F80092285E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E57A-8942-430D-85D2-95505243F86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AE12-50DA-45ED-8410-300043CD563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914400" y="5230800"/>
            <a:ext cx="7772400" cy="1109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77"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5"/>
                                        </p:tgtEl>
                                        <p:attrNameLst>
                                          <p:attrName>style.visibility</p:attrName>
                                        </p:attrNameLst>
                                      </p:cBhvr>
                                      <p:to>
                                        <p:strVal val="visible"/>
                                      </p:to>
                                    </p:set>
                                    <p:animEffect filter="fade" transition="in">
                                      <p:cBhvr additive="repl">
                                        <p:cTn id="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00" name="Picture 2" descr=""/>
          <p:cNvPicPr/>
          <p:nvPr/>
        </p:nvPicPr>
        <p:blipFill>
          <a:blip r:embed="rId1"/>
          <a:stretch/>
        </p:blipFill>
        <p:spPr>
          <a:xfrm>
            <a:off x="1600200" y="1523880"/>
            <a:ext cx="3286080" cy="2254320"/>
          </a:xfrm>
          <a:prstGeom prst="rect">
            <a:avLst/>
          </a:prstGeom>
          <a:ln w="0">
            <a:noFill/>
          </a:ln>
        </p:spPr>
      </p:pic>
      <p:pic>
        <p:nvPicPr>
          <p:cNvPr id="401" name="Picture 4" descr=""/>
          <p:cNvPicPr/>
          <p:nvPr/>
        </p:nvPicPr>
        <p:blipFill>
          <a:blip r:embed="rId2"/>
          <a:stretch/>
        </p:blipFill>
        <p:spPr>
          <a:xfrm>
            <a:off x="5105520" y="1371600"/>
            <a:ext cx="2781360" cy="2085840"/>
          </a:xfrm>
          <a:prstGeom prst="rect">
            <a:avLst/>
          </a:prstGeom>
          <a:ln w="0">
            <a:noFill/>
          </a:ln>
        </p:spPr>
      </p:pic>
      <p:pic>
        <p:nvPicPr>
          <p:cNvPr id="402" name="Picture 5" descr=""/>
          <p:cNvPicPr/>
          <p:nvPr/>
        </p:nvPicPr>
        <p:blipFill>
          <a:blip r:embed="rId3"/>
          <a:stretch/>
        </p:blipFill>
        <p:spPr>
          <a:xfrm>
            <a:off x="1600200" y="4629240"/>
            <a:ext cx="3429000" cy="2228760"/>
          </a:xfrm>
          <a:prstGeom prst="rect">
            <a:avLst/>
          </a:prstGeom>
          <a:ln w="0">
            <a:noFill/>
          </a:ln>
        </p:spPr>
      </p:pic>
      <p:pic>
        <p:nvPicPr>
          <p:cNvPr id="403" name="Picture 6" descr=""/>
          <p:cNvPicPr/>
          <p:nvPr/>
        </p:nvPicPr>
        <p:blipFill>
          <a:blip r:embed="rId4"/>
          <a:stretch/>
        </p:blipFill>
        <p:spPr>
          <a:xfrm>
            <a:off x="5181480" y="4876920"/>
            <a:ext cx="3589560" cy="1828800"/>
          </a:xfrm>
          <a:prstGeom prst="rect">
            <a:avLst/>
          </a:prstGeom>
          <a:ln w="0">
            <a:noFill/>
          </a:ln>
        </p:spPr>
      </p:pic>
      <p:pic>
        <p:nvPicPr>
          <p:cNvPr id="404" name="Picture 7" descr=""/>
          <p:cNvPicPr/>
          <p:nvPr/>
        </p:nvPicPr>
        <p:blipFill>
          <a:blip r:embed="rId5"/>
          <a:stretch/>
        </p:blipFill>
        <p:spPr>
          <a:xfrm>
            <a:off x="533520" y="2819520"/>
            <a:ext cx="2000160" cy="2286000"/>
          </a:xfrm>
          <a:prstGeom prst="rect">
            <a:avLst/>
          </a:prstGeom>
          <a:ln w="0">
            <a:noFill/>
          </a:ln>
        </p:spPr>
      </p:pic>
      <p:pic>
        <p:nvPicPr>
          <p:cNvPr id="405"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07"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11"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12"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15" name="Content Placeholder 9" descr=""/>
          <p:cNvPicPr/>
          <p:nvPr/>
        </p:nvPicPr>
        <p:blipFill>
          <a:blip r:embed="rId1"/>
          <a:stretch/>
        </p:blipFill>
        <p:spPr>
          <a:xfrm>
            <a:off x="914400" y="585720"/>
            <a:ext cx="7772400" cy="6510240"/>
          </a:xfrm>
          <a:prstGeom prst="rect">
            <a:avLst/>
          </a:prstGeom>
          <a:ln w="0">
            <a:noFill/>
          </a:ln>
        </p:spPr>
      </p:pic>
      <p:sp>
        <p:nvSpPr>
          <p:cNvPr id="416"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9" name="Picture 2" descr=""/>
          <p:cNvPicPr/>
          <p:nvPr/>
        </p:nvPicPr>
        <p:blipFill>
          <a:blip r:embed="rId1"/>
          <a:stretch/>
        </p:blipFill>
        <p:spPr>
          <a:xfrm>
            <a:off x="5486400" y="4200480"/>
            <a:ext cx="2422440" cy="2657520"/>
          </a:xfrm>
          <a:prstGeom prst="rect">
            <a:avLst/>
          </a:prstGeom>
          <a:ln w="0">
            <a:noFill/>
          </a:ln>
        </p:spPr>
      </p:pic>
      <p:pic>
        <p:nvPicPr>
          <p:cNvPr id="420" name="Picture 3" descr=""/>
          <p:cNvPicPr/>
          <p:nvPr/>
        </p:nvPicPr>
        <p:blipFill>
          <a:blip r:embed="rId2"/>
          <a:stretch/>
        </p:blipFill>
        <p:spPr>
          <a:xfrm>
            <a:off x="1676520" y="4200480"/>
            <a:ext cx="2073240" cy="2657520"/>
          </a:xfrm>
          <a:prstGeom prst="rect">
            <a:avLst/>
          </a:prstGeom>
          <a:ln w="0">
            <a:noFill/>
          </a:ln>
        </p:spPr>
      </p:pic>
      <p:pic>
        <p:nvPicPr>
          <p:cNvPr id="421"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3" name="Picture 3" descr=""/>
          <p:cNvPicPr/>
          <p:nvPr/>
        </p:nvPicPr>
        <p:blipFill>
          <a:blip r:embed="rId1"/>
          <a:stretch/>
        </p:blipFill>
        <p:spPr>
          <a:xfrm>
            <a:off x="6324480" y="838080"/>
            <a:ext cx="2581560" cy="1771920"/>
          </a:xfrm>
          <a:prstGeom prst="rect">
            <a:avLst/>
          </a:prstGeom>
          <a:ln w="0">
            <a:noFill/>
          </a:ln>
        </p:spPr>
      </p:pic>
      <p:pic>
        <p:nvPicPr>
          <p:cNvPr id="424" name="Picture 4" descr=""/>
          <p:cNvPicPr/>
          <p:nvPr/>
        </p:nvPicPr>
        <p:blipFill>
          <a:blip r:embed="rId2"/>
          <a:stretch/>
        </p:blipFill>
        <p:spPr>
          <a:xfrm>
            <a:off x="3429000" y="838080"/>
            <a:ext cx="2701800" cy="1792440"/>
          </a:xfrm>
          <a:prstGeom prst="rect">
            <a:avLst/>
          </a:prstGeom>
          <a:ln w="0">
            <a:noFill/>
          </a:ln>
        </p:spPr>
      </p:pic>
      <p:pic>
        <p:nvPicPr>
          <p:cNvPr id="425"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0"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2">
                                            <p:txEl>
                                              <p:pRg st="5" end="5"/>
                                            </p:txEl>
                                          </p:spTgt>
                                        </p:tgtEl>
                                        <p:attrNameLst>
                                          <p:attrName>style.visibility</p:attrName>
                                        </p:attrNameLst>
                                      </p:cBhvr>
                                      <p:to>
                                        <p:strVal val="visible"/>
                                      </p:to>
                                    </p:set>
                                    <p:animEffect filter="fade" transition="in">
                                      <p:cBhvr additive="repl">
                                        <p:cTn id="14"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8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0"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391" name="Picture 2" descr=""/>
          <p:cNvPicPr/>
          <p:nvPr/>
        </p:nvPicPr>
        <p:blipFill>
          <a:blip r:embed="rId2"/>
          <a:stretch/>
        </p:blipFill>
        <p:spPr>
          <a:xfrm>
            <a:off x="6629400" y="1523880"/>
            <a:ext cx="1847880" cy="2467080"/>
          </a:xfrm>
          <a:prstGeom prst="rect">
            <a:avLst/>
          </a:prstGeom>
          <a:ln w="0">
            <a:noFill/>
          </a:ln>
        </p:spPr>
      </p:pic>
      <p:sp>
        <p:nvSpPr>
          <p:cNvPr id="392"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baseline="30000">
                <a:solidFill>
                  <a:srgbClr val="ffffff"/>
                </a:solidFill>
                <a:latin typeface="Corbel"/>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394" name=""/>
          <p:cNvSpPr txBox="1"/>
          <p:nvPr/>
        </p:nvSpPr>
        <p:spPr>
          <a:xfrm>
            <a:off x="914400" y="1784520"/>
            <a:ext cx="3200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irit entities are communicating through the Earth</a:t>
            </a:r>
            <a:endParaRPr b="0" lang="en-US" sz="3000" spc="-1" strike="noStrike">
              <a:solidFill>
                <a:srgbClr val="ffffff"/>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niversity math students are playing a prank</a:t>
            </a:r>
            <a:endParaRPr b="0" lang="en-US" sz="3000" spc="-1" strike="noStrike">
              <a:solidFill>
                <a:srgbClr val="ffffff"/>
              </a:solidFill>
              <a:latin typeface="Corbel"/>
            </a:endParaRPr>
          </a:p>
        </p:txBody>
      </p:sp>
      <p:pic>
        <p:nvPicPr>
          <p:cNvPr id="395" name="Picture 2" descr="http://static.ddmcdn.com/gif/crop-circle-12.jpg"/>
          <p:cNvPicPr/>
          <p:nvPr/>
        </p:nvPicPr>
        <p:blipFill>
          <a:blip r:embed="rId1"/>
          <a:stretch/>
        </p:blipFill>
        <p:spPr>
          <a:xfrm>
            <a:off x="4521240" y="1828800"/>
            <a:ext cx="41655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7"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98"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Administrator</cp:lastModifiedBy>
  <dcterms:modified xsi:type="dcterms:W3CDTF">2013-02-27T18:51:37Z</dcterms:modified>
  <cp:revision>3</cp:revision>
  <dc:subject/>
  <dc:title>Nature of science</dc:title>
</cp:coreProperties>
</file>